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F9C-BB16-44DA-B5E1-75DF1F7C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ABF-E6FC-4824-A7EF-6CC0E60F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920-5C1D-4E97-B16C-520076D6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91D-EF96-48DA-BAA6-FE970385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8AE-B0DA-4FA6-A3F7-898E1EE4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1B6-7D72-4307-9338-72647A6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E90-DB14-454B-BF7B-5B58EC4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ECD-DA09-4B2B-817D-F16DFB0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EA5-E55E-4D51-A8EE-599A988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8DA-C211-40E6-B8D5-08E0791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2D6-AA77-45AE-9B7F-5B47FDB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5C4-D134-4DDC-B0EB-6BAD660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A924-2A12-4C1B-B525-0962E00E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La Casa Para la Ven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095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By Mary Pe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05520" cy="320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320040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Book Antiqua"/>
              </a:rPr>
              <a:t>La casa est</a:t>
            </a:r>
            <a:r>
              <a:rPr b="0" lang="en-US" sz="1800" spc="-1" strike="noStrike">
                <a:solidFill>
                  <a:srgbClr val="006699"/>
                </a:solidFill>
                <a:latin typeface="Book Antiqua"/>
                <a:ea typeface="Arial"/>
              </a:rPr>
              <a:t>á localizada en Holliston.  Está en la Silver Lane.  La casa cuesta $300,00.  Tiene catorce grande cuartos.  Tienes dos cocinas.  Tienes un nevera, un fregadero, un horno y un estufa.  Tienes  tres cuarto de baño.  Dos ante la cuarto de baño es sobre pimer piso.  La sala de juegos es muy, muy , muy grande.  La columpio es en la reves ante la casa.  La sala de televisión es  grande y muy lujosa.  La casa es muy grande, muy lujosa y muy estup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3:06Z</dcterms:created>
  <dc:creator>pedersonmar</dc:creator>
  <dc:description/>
  <dc:language>en-US</dc:language>
  <cp:lastModifiedBy>pedersonmar</cp:lastModifiedBy>
  <dcterms:modified xsi:type="dcterms:W3CDTF">2012-05-22T13:00:15Z</dcterms:modified>
  <cp:revision>4</cp:revision>
  <dc:subject/>
  <dc:title>Slide 1</dc:title>
</cp:coreProperties>
</file>